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2.png" ContentType="image/png"/>
  <Override PartName="/ppt/media/image3.wmf" ContentType="image/x-wmf"/>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E361-1CA1-4A8F-BBE8-13EC5CA94F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E6EE-3C23-49E3-A37E-668420258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852D-D2D5-4B81-B9F6-24EF16E50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8D88-560E-4995-B8E1-BF040783F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4BCAB-0083-4ADC-A265-6227FD85C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7CFCF-87EC-46C6-9ECD-19A7281FC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C1FFF-1662-435D-8BF1-CA4EC7F6F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15B5E-EEBF-431F-9D8B-BDE468E9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8D216-FF47-4298-842A-C2BFD50BE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8509-879D-4A97-91A8-5C201F2DE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28961-1907-438B-A68A-F8D1BFB06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62728-62AE-4807-BC50-EE4BAC792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C91E7-A0B0-4BF9-A66F-E51A398EC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66FA4-C6CE-48C0-8AB3-E96FD18A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21312-5423-4979-B6A5-916191BCF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3423-8138-4477-9ED9-F4139ABF7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621FB-CB91-40A7-B4D9-FEDAA3189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54BB8-7B72-47D6-B42F-EF4DFDDD4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C8DD5-29E1-438B-8678-AD5C1953E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FF92C3-BBF1-4A56-9C39-FA8E421DE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CFABB-7457-48D1-8A42-E70A2E9EA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26BA1-6AD4-43F8-A74E-D3109392F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62849-6807-42E3-85C1-DE3C086B6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66DE5-7077-4DE3-AB0A-48B5C19FC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A39D-9CBD-420B-BC94-A1EF47F4B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09634-BB2A-48BE-8676-2DD567DA9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6C86B-6F2A-4366-BFC9-352B8E768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0DA1E-3F6F-4905-B943-005B2E3F8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F41F9-E2AF-4C1E-AE52-93FFC5228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D1342-247D-43A2-B270-E4A585C9D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1E8DCD-091F-450A-9075-001A12871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450831-0EB9-439E-8A89-73E22A341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820D43-623C-4CFF-A930-DE03ED9A1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8C2BD-251D-4DB1-A45F-60A1C6814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9D98C-FF2C-4F82-A488-4D7B4DD0F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091A-B482-4625-848B-BCE2B8FE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FD64D-C264-4866-96AA-AE084150C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58280-8C9D-4921-90D9-38CE5D129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E0E42-6F86-45C4-B1E5-6A1415611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8579E-C0D5-45F8-9740-97DF64595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75F39-F6D7-4994-9003-FC352829A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8DF27-04EA-4A58-892B-5ACBFE419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DF2F7-514C-400E-B7ED-8F9741DB8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44445-B08A-45F7-BD67-63BF7AEBC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DCFDE-B371-4A5B-BDD5-D7DB713E3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5E4E1B-A003-4A98-A4EA-628A37F2D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9AA7-5CBA-459A-B8F6-5473C2BA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B932F-4B83-4C02-93E1-EE17FBBC9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AD80A-6B17-4352-9CB5-ED9DC631D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EBA74-B3D5-4C26-95A3-7A2E2A5D1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C3B9E-52DF-4978-A6FE-4606BD968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A31A0-396D-4288-BFC9-F9F8CF3FE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6BF0A-76A5-4B2E-9899-1A8695DFF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5BB3A-B8F8-4324-AED0-BD0C49E00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81E5E-2166-49CD-8348-FAB489DF6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B1151-C936-40C0-ABD4-540966BB8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5A4F6-6649-4680-B493-69C10306E2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A8AF-BF01-48DC-8598-95595323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BC265E-685D-4D5E-A071-41A7C35816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5AB8C-3A4B-490D-9F2B-7ADF65A1E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7B8EDC-64BE-4911-989E-9A1168950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A8702-5782-496B-BDE7-867FD7E3B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2D071-822B-48B4-9577-C616DA8C9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5553A-6E8B-49E1-8F70-62E245A6D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11999-94E8-45CF-A98E-A02B37009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30AA9-ACBC-46BD-8E4D-F15D85D54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7E7FE-0059-4943-B266-6DC706E69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55705-9AD6-4FAA-BBAA-FCEC0BFD4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6EB8-F435-49FE-98C8-C628BBB8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BBE6F-CED0-4287-8E0D-ECAA37AC8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3B365-5552-4AFA-B437-73B50910E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038F95-FD90-4C8D-B4EC-25FDBCC4A9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DC8F3-4BD9-4D5B-8E93-A6A101E66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4C274-5761-4B88-BE72-5FA69BCD7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3C0DCA-3EA0-4733-85CA-B01FDFCF2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76F46-A152-4FDE-B5AA-5E530A7AB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A2AE2-4C6E-49C2-BDE2-8D8DF270A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0AD49-45DF-4E9B-BB5C-C9790A084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2FC71-4B85-4665-80DD-D55DF2D8F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4223-6EB2-4DF2-9C69-8D51166C3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1847F6-D6E6-4778-84F9-1B408E516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6E1A6-FE5B-4456-9CC9-D9A3DFD4A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DD147-892E-44B2-99F7-26246F131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D56F4-6D3D-439E-AEAB-0E2ED255EC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D0F838-BF1A-4A8E-B464-E98E0B4BA0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8077-27C1-4098-9E08-38561ED56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953A-71A4-4FEC-95E7-295AFEEA1E6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A8CA-837F-4732-AC38-A9983F72C19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F042-6A92-442B-B3C7-BC2363B3998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14EC-90A9-4445-B45C-7954F561644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DB3F-DC7B-4EBB-A815-AF49D0F31BE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8037-C6A5-41C5-B7EC-60BD1B105F3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7BA9-AD75-4ED2-840B-BEABA9FB818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Title 1" descr=""/>
          <p:cNvPicPr/>
          <p:nvPr/>
        </p:nvPicPr>
        <p:blipFill>
          <a:blip r:embed="rId2"/>
          <a:stretch/>
        </p:blipFill>
        <p:spPr>
          <a:xfrm>
            <a:off x="396720" y="865080"/>
            <a:ext cx="8101080" cy="3256200"/>
          </a:xfrm>
          <a:prstGeom prst="rect">
            <a:avLst/>
          </a:prstGeom>
          <a:ln w="0">
            <a:noFill/>
          </a:ln>
        </p:spPr>
      </p:pic>
      <p:sp>
        <p:nvSpPr>
          <p:cNvPr id="311" name="PlaceHolder 1"/>
          <p:cNvSpPr>
            <a:spLocks noGrp="1"/>
          </p:cNvSpPr>
          <p:nvPr>
            <p:ph type="subTitle"/>
          </p:nvPr>
        </p:nvSpPr>
        <p:spPr>
          <a:xfrm>
            <a:off x="3352680" y="4876920"/>
            <a:ext cx="5105520" cy="167616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Lucida Handwriting"/>
              </a:rPr>
              <a:t>Alma  E. Berowa, PhD</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Lucida Handwriting"/>
              </a:rPr>
              <a:t>College  of  Social Sciences and </a:t>
            </a:r>
            <a:r>
              <a:rPr b="0" lang="en-US" sz="2000" spc="-1" strike="noStrike">
                <a:solidFill>
                  <a:srgbClr val="ffc000"/>
                </a:solidFill>
                <a:latin typeface="Lucida Handwriting"/>
              </a:rPr>
              <a:t>	</a:t>
            </a:r>
            <a:r>
              <a:rPr b="0" lang="en-US" sz="2000" spc="-1" strike="noStrike">
                <a:solidFill>
                  <a:srgbClr val="ffc000"/>
                </a:solidFill>
                <a:latin typeface="Lucida Handwriting"/>
              </a:rPr>
              <a:t>Humanities</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Lucida Handwriting"/>
              </a:rPr>
              <a:t>MSU-Marawi</a:t>
            </a:r>
            <a:endParaRPr b="0" lang="en-US" sz="2000" spc="-1" strike="noStrike">
              <a:solidFill>
                <a:srgbClr val="ffffff"/>
              </a:solidFill>
              <a:latin typeface="Corbel"/>
            </a:endParaRPr>
          </a:p>
        </p:txBody>
      </p:sp>
      <p:pic>
        <p:nvPicPr>
          <p:cNvPr id="312" name="Picture 3" descr="C:\Program Files\Common Files\Microsoft Shared\Clipart\cagcat50\bs00554_.wmf"/>
          <p:cNvPicPr/>
          <p:nvPr/>
        </p:nvPicPr>
        <p:blipFill>
          <a:blip r:embed="rId3"/>
          <a:stretch/>
        </p:blipFill>
        <p:spPr>
          <a:xfrm>
            <a:off x="4724280" y="224784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metimes, we need to go beyond neutrality</a:t>
            </a:r>
            <a:endParaRPr b="0" lang="en-US" sz="2700" spc="-1" strike="noStrike">
              <a:solidFill>
                <a:srgbClr val="000000"/>
              </a:solidFill>
              <a:latin typeface="Corbel"/>
            </a:endParaRPr>
          </a:p>
          <a:p>
            <a:pPr marL="394200" indent="-286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ddress the feeling of alienation, of being “invisible” – the “outsider syndrome” – or “OP” (out of place)</a:t>
            </a: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me are embarrassed to talk because they may be ridiculed by because of their pronunciation or intonation and other speech patterns</a:t>
            </a: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use of technology may be a barrier for others, some students may not have access; use IT  in ways that encourage active participation and interaction</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4" name=""/>
          <p:cNvSpPr txBox="1"/>
          <p:nvPr/>
        </p:nvSpPr>
        <p:spPr>
          <a:xfrm>
            <a:off x="0" y="1523520"/>
            <a:ext cx="8686800" cy="53341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Feeling  welcome through the curriculum</a:t>
            </a:r>
            <a:endParaRPr b="0" lang="en-US" sz="32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key to student motivation, use community resources,  discuss justice issu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udents should not encounter overt hostility, ignorance &amp; </a:t>
            </a:r>
            <a:r>
              <a:rPr b="0" lang="en-US" sz="2000" spc="-1" strike="noStrike">
                <a:solidFill>
                  <a:srgbClr val="000000"/>
                </a:solidFill>
                <a:latin typeface="Corbel"/>
              </a:rPr>
              <a:t>	</a:t>
            </a:r>
            <a:r>
              <a:rPr b="0" lang="en-US" sz="2000" spc="-1" strike="noStrike">
                <a:solidFill>
                  <a:srgbClr val="000000"/>
                </a:solidFill>
                <a:latin typeface="Corbel"/>
              </a:rPr>
              <a:t>insensitivity (careful about our jokes, sometimes they are not funny, </a:t>
            </a:r>
            <a:r>
              <a:rPr b="0" lang="en-US" sz="2000" spc="-1" strike="noStrike">
                <a:solidFill>
                  <a:srgbClr val="000000"/>
                </a:solidFill>
                <a:latin typeface="Corbel"/>
              </a:rPr>
              <a:t>	</a:t>
            </a:r>
            <a:r>
              <a:rPr b="0" lang="en-US" sz="2000" spc="-1" strike="noStrike">
                <a:solidFill>
                  <a:srgbClr val="000000"/>
                </a:solidFill>
                <a:latin typeface="Corbel"/>
              </a:rPr>
              <a:t>instead, they are subtle insults on women, on being gay, or on </a:t>
            </a:r>
            <a:r>
              <a:rPr b="0" lang="en-US" sz="2000" spc="-1" strike="noStrike">
                <a:solidFill>
                  <a:srgbClr val="000000"/>
                </a:solidFill>
                <a:latin typeface="Corbel"/>
              </a:rPr>
              <a:t>	</a:t>
            </a:r>
            <a:r>
              <a:rPr b="0" lang="en-US" sz="2000" spc="-1" strike="noStrike">
                <a:solidFill>
                  <a:srgbClr val="000000"/>
                </a:solidFill>
                <a:latin typeface="Corbel"/>
              </a:rPr>
              <a:t>physical disabilities, etc.)</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therwise, the message received  is that there is an underlying resentment about the presence of students who “don’t fit)</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 order to become more sensitive to the feelings of others,  let us look within ourselves for lingering bias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e need to unlearn some deep-seated prejudic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impt </a:t>
            </a:r>
            <a:r>
              <a:rPr b="0" lang="en-US" sz="2000" spc="-1" strike="noStrike">
                <a:solidFill>
                  <a:srgbClr val="000000"/>
                </a:solidFill>
                <a:latin typeface="Corbel"/>
              </a:rPr>
              <a:t>-  helping al students to display welcoming behavior toward one another in the classroom .  As teachers, we play a critical role in monitoring classroom behavior.</a:t>
            </a:r>
            <a:endParaRPr b="0" lang="en-US" sz="2000" spc="-1" strike="noStrike">
              <a:solidFill>
                <a:srgbClr val="000000"/>
              </a:solidFill>
              <a:latin typeface="Corbel"/>
            </a:endParaRPr>
          </a:p>
          <a:p>
            <a:pPr lvl="2" marL="955440" indent="-219240" algn="just">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ximize “teachable moments” – not only to be welcoming to diverse groups but also to teach  increasing sensitivity to students about cultural differences.</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6" name=""/>
          <p:cNvSpPr txBox="1"/>
          <p:nvPr/>
        </p:nvSpPr>
        <p:spPr>
          <a:xfrm>
            <a:off x="0" y="1523520"/>
            <a:ext cx="9144000" cy="53341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Being treated as an individual</a:t>
            </a:r>
            <a:endParaRPr b="0" lang="en-US" sz="32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void stereotyping and generalizations  (do not refer to Muslim </a:t>
            </a:r>
            <a:r>
              <a:rPr b="0" lang="en-US" sz="2400" spc="-1" strike="noStrike">
                <a:solidFill>
                  <a:srgbClr val="000000"/>
                </a:solidFill>
                <a:latin typeface="Corbel"/>
              </a:rPr>
              <a:t>	</a:t>
            </a:r>
            <a:r>
              <a:rPr b="0" lang="en-US" sz="2400" spc="-1" strike="noStrike">
                <a:solidFill>
                  <a:srgbClr val="000000"/>
                </a:solidFill>
                <a:latin typeface="Corbel"/>
              </a:rPr>
              <a:t>student as  “terrorist” or female students to be aspiring `beauty </a:t>
            </a:r>
            <a:r>
              <a:rPr b="0" lang="en-US" sz="2400" spc="-1" strike="noStrike">
                <a:solidFill>
                  <a:srgbClr val="000000"/>
                </a:solidFill>
                <a:latin typeface="Corbel"/>
              </a:rPr>
              <a:t>	</a:t>
            </a:r>
            <a:r>
              <a:rPr b="0" lang="en-US" sz="2400" spc="-1" strike="noStrike">
                <a:solidFill>
                  <a:srgbClr val="000000"/>
                </a:solidFill>
                <a:latin typeface="Corbel"/>
              </a:rPr>
              <a:t>queens)</a:t>
            </a:r>
            <a:endParaRPr b="0" lang="en-US" sz="2400" spc="-1" strike="noStrike">
              <a:solidFill>
                <a:srgbClr val="000000"/>
              </a:solidFill>
              <a:latin typeface="Corbel"/>
            </a:endParaRPr>
          </a:p>
          <a:p>
            <a:pPr lvl="1" marL="7300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inuous process of “unlearning” through careful reflection our </a:t>
            </a:r>
            <a:r>
              <a:rPr b="0" lang="en-US" sz="2400" spc="-1" strike="noStrike">
                <a:solidFill>
                  <a:srgbClr val="000000"/>
                </a:solidFill>
                <a:latin typeface="Corbel"/>
              </a:rPr>
              <a:t>	</a:t>
            </a:r>
            <a:r>
              <a:rPr b="0" lang="en-US" sz="2400" spc="-1" strike="noStrike">
                <a:solidFill>
                  <a:srgbClr val="000000"/>
                </a:solidFill>
                <a:latin typeface="Corbel"/>
              </a:rPr>
              <a:t>wrong </a:t>
            </a:r>
            <a:r>
              <a:rPr b="0" lang="en-US" sz="2400" spc="-1" strike="noStrike">
                <a:solidFill>
                  <a:srgbClr val="000000"/>
                </a:solidFill>
                <a:latin typeface="Corbel"/>
              </a:rPr>
              <a:t>	</a:t>
            </a:r>
            <a:r>
              <a:rPr b="0" lang="en-US" sz="2400" spc="-1" strike="noStrike">
                <a:solidFill>
                  <a:srgbClr val="000000"/>
                </a:solidFill>
                <a:latin typeface="Corbel"/>
              </a:rPr>
              <a:t>assumptions</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llow students to volunteer opinion</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dividual nurturing through mentoring  relationship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8"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versities:</a:t>
            </a:r>
            <a:endParaRPr b="0" lang="en-US" sz="32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ender (women and men)</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udents with mobility impairments</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blems with vision or hearing </a:t>
            </a:r>
            <a:endParaRPr b="0" lang="en-US" sz="2800" spc="-1" strike="noStrike">
              <a:solidFill>
                <a:srgbClr val="000000"/>
              </a:solidFill>
              <a:latin typeface="Corbel"/>
            </a:endParaRPr>
          </a:p>
          <a:p>
            <a:pPr lvl="1" marL="7300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000" spc="-1" strike="noStrike">
                <a:solidFill>
                  <a:srgbClr val="000000"/>
                </a:solidFill>
                <a:latin typeface="Corbel"/>
              </a:rPr>
              <a:t>(permission to audiotape lecture)</a:t>
            </a:r>
            <a:endParaRPr b="0" lang="en-US" sz="20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fferences because of attention issues</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yslexia</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ge differences/marital status </a:t>
            </a:r>
            <a:endParaRPr b="0" lang="en-US" sz="2800" spc="-1" strike="noStrike">
              <a:solidFill>
                <a:srgbClr val="000000"/>
              </a:solidFill>
              <a:latin typeface="Corbel"/>
            </a:endParaRPr>
          </a:p>
          <a:p>
            <a:pPr lvl="1" marL="7300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000" spc="-1" strike="noStrike">
                <a:solidFill>
                  <a:srgbClr val="000000"/>
                </a:solidFill>
                <a:latin typeface="Corbel"/>
              </a:rPr>
              <a:t>(extended time for  tests, childcare issues, workplace pressures)</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crease opportunities for full participation</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 aware that different cultural and learning </a:t>
            </a:r>
            <a:r>
              <a:rPr b="0" lang="en-US" sz="2800" spc="-1" strike="noStrike">
                <a:solidFill>
                  <a:srgbClr val="000000"/>
                </a:solidFill>
                <a:latin typeface="Corbel"/>
              </a:rPr>
              <a:t>	</a:t>
            </a:r>
            <a:r>
              <a:rPr b="0" lang="en-US" sz="2800" spc="-1" strike="noStrike">
                <a:solidFill>
                  <a:srgbClr val="000000"/>
                </a:solidFill>
                <a:latin typeface="Corbel"/>
              </a:rPr>
              <a:t>styles exist</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se varied instructional approaches (lectures, </a:t>
            </a:r>
            <a:r>
              <a:rPr b="0" lang="en-US" sz="2800" spc="-1" strike="noStrike">
                <a:solidFill>
                  <a:srgbClr val="000000"/>
                </a:solidFill>
                <a:latin typeface="Corbel"/>
              </a:rPr>
              <a:t>	</a:t>
            </a:r>
            <a:r>
              <a:rPr b="0" lang="en-US" sz="2800" spc="-1" strike="noStrike">
                <a:solidFill>
                  <a:srgbClr val="000000"/>
                </a:solidFill>
                <a:latin typeface="Corbel"/>
              </a:rPr>
              <a:t>discussion, small group work, experiential, </a:t>
            </a:r>
            <a:r>
              <a:rPr b="0" lang="en-US" sz="2800" spc="-1" strike="noStrike">
                <a:solidFill>
                  <a:srgbClr val="000000"/>
                </a:solidFill>
                <a:latin typeface="Corbel"/>
              </a:rPr>
              <a:t>	</a:t>
            </a:r>
            <a:r>
              <a:rPr b="0" lang="en-US" sz="2800" spc="-1" strike="noStrike">
                <a:solidFill>
                  <a:srgbClr val="000000"/>
                </a:solidFill>
                <a:latin typeface="Corbel"/>
              </a:rPr>
              <a:t>learning, simulatio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aluate work from multiple perspectives: each is </a:t>
            </a:r>
            <a:r>
              <a:rPr b="0" lang="en-US" sz="2800" spc="-1" strike="noStrike">
                <a:solidFill>
                  <a:srgbClr val="000000"/>
                </a:solidFill>
                <a:latin typeface="Corbel"/>
              </a:rPr>
              <a:t>	</a:t>
            </a:r>
            <a:r>
              <a:rPr b="0" lang="en-US" sz="2800" spc="-1" strike="noStrike">
                <a:solidFill>
                  <a:srgbClr val="000000"/>
                </a:solidFill>
                <a:latin typeface="Corbel"/>
              </a:rPr>
              <a:t>valuable in a different wa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rbel"/>
              </a:rPr>
              <a:t>Increasing Motivation </a:t>
            </a:r>
            <a:r>
              <a:rPr b="0" lang="en-US" sz="1700" spc="-1" strike="noStrike">
                <a:solidFill>
                  <a:srgbClr val="000000"/>
                </a:solidFill>
                <a:latin typeface="Corbel"/>
              </a:rPr>
              <a:t>(Wlodski &amp; Ginsberg, 1995)</a:t>
            </a:r>
            <a:endParaRPr b="0" lang="en-US" sz="17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stablishing inclusion by conveying a sense of  respect for students and communicating a sense of confidence  in the student</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Practices  include peer and collaborative learning, peer teaching, writing groups, exercises that  create opportunities for reframing knowledge from different perspectives</a:t>
            </a:r>
            <a:endParaRPr b="0" lang="en-US" sz="1600" spc="-1" strike="noStrike">
              <a:solidFill>
                <a:srgbClr val="000000"/>
              </a:solidFill>
              <a:latin typeface="Corbel"/>
            </a:endParaRPr>
          </a:p>
          <a:p>
            <a:pPr lvl="2" marL="965520" indent="-221400">
              <a:lnSpc>
                <a:spcPct val="90000"/>
              </a:lnSpc>
              <a:spcBef>
                <a:spcPts val="2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nhancing meaning stresses the need for engagement and challenge through HOTS (higher order thinking skills) in real world applications</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itical questioning, decision-making exercises, creative activities</a:t>
            </a:r>
            <a:endParaRPr b="0" lang="en-US" sz="1600" spc="-1" strike="noStrike">
              <a:solidFill>
                <a:srgbClr val="000000"/>
              </a:solidFill>
              <a:latin typeface="Corbel"/>
            </a:endParaRPr>
          </a:p>
          <a:p>
            <a:pPr lvl="2" marL="965520" indent="-221400">
              <a:lnSpc>
                <a:spcPct val="90000"/>
              </a:lnSpc>
              <a:spcBef>
                <a:spcPts val="2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ngendering competence – the need for the learner to realize that success is possible</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ultiple ways to represent knowledge</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requent feedback</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elf-assessment</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lternatives grounded on the context of the skills and knowledge being assessed</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Being treated fairly</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galitarian treatment is  a valued norm in higher</a:t>
            </a:r>
            <a:endParaRPr b="0" lang="en-US" sz="2800" spc="-1" strike="noStrike">
              <a:solidFill>
                <a:srgbClr val="000000"/>
              </a:solidFill>
              <a:latin typeface="Corbel"/>
            </a:endParaRPr>
          </a:p>
          <a:p>
            <a:pPr lvl="1" marL="70812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education</a:t>
            </a:r>
            <a:endParaRPr b="0" lang="en-US" sz="28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grading anonymously, giving all students same time to complete a test or assignment, requring same number and type of assignments are common practice – </a:t>
            </a:r>
            <a:endParaRPr b="0" lang="en-US" sz="2800" spc="-1" strike="noStrike">
              <a:solidFill>
                <a:srgbClr val="000000"/>
              </a:solidFill>
              <a:latin typeface="Corbel"/>
            </a:endParaRPr>
          </a:p>
          <a:p>
            <a:pPr lvl="3" marL="1179360" indent="-176760">
              <a:lnSpc>
                <a:spcPct val="90000"/>
              </a:lnSpc>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uming that students are homogenous but I reality contemporary classroom are by and large, heterogenous</a:t>
            </a:r>
            <a:endParaRPr b="0" lang="en-US" sz="2000" spc="-1" strike="noStrike">
              <a:solidFill>
                <a:srgbClr val="000000"/>
              </a:solidFill>
              <a:latin typeface="Corbel"/>
            </a:endParaRPr>
          </a:p>
          <a:p>
            <a:pPr lvl="3" marL="1179360" indent="-176760">
              <a:lnSpc>
                <a:spcPct val="90000"/>
              </a:lnSpc>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fore, I argue that students should not be treated uniformly but fairly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6" name=""/>
          <p:cNvSpPr txBox="1"/>
          <p:nvPr/>
        </p:nvSpPr>
        <p:spPr>
          <a:xfrm>
            <a:off x="457200" y="1523520"/>
            <a:ext cx="8686800" cy="533412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tudents with disabilities should be given more </a:t>
            </a:r>
            <a:r>
              <a:rPr b="0" lang="en-US" sz="3000" spc="-1" strike="noStrike">
                <a:solidFill>
                  <a:srgbClr val="000000"/>
                </a:solidFill>
                <a:latin typeface="Corbel"/>
              </a:rPr>
              <a:t>	</a:t>
            </a:r>
            <a:r>
              <a:rPr b="0" lang="en-US" sz="3000" spc="-1" strike="noStrike">
                <a:solidFill>
                  <a:srgbClr val="000000"/>
                </a:solidFill>
                <a:latin typeface="Corbel"/>
              </a:rPr>
              <a:t>time to answer for exam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ossibility of help from a reader or a special </a:t>
            </a:r>
            <a:r>
              <a:rPr b="0" lang="en-US" sz="3000" spc="-1" strike="noStrike">
                <a:solidFill>
                  <a:srgbClr val="000000"/>
                </a:solidFill>
                <a:latin typeface="Corbel"/>
              </a:rPr>
              <a:t>	</a:t>
            </a:r>
            <a:r>
              <a:rPr b="0" lang="en-US" sz="3000" spc="-1" strike="noStrike">
                <a:solidFill>
                  <a:srgbClr val="000000"/>
                </a:solidFill>
                <a:latin typeface="Corbel"/>
              </a:rPr>
              <a:t>setting </a:t>
            </a:r>
            <a:r>
              <a:rPr b="0" lang="en-US" sz="3000" spc="-1" strike="noStrike">
                <a:solidFill>
                  <a:srgbClr val="000000"/>
                </a:solidFill>
                <a:latin typeface="Corbel"/>
              </a:rPr>
              <a:t>	</a:t>
            </a:r>
            <a:r>
              <a:rPr b="0" lang="en-US" sz="3000" spc="-1" strike="noStrike">
                <a:solidFill>
                  <a:srgbClr val="000000"/>
                </a:solidFill>
                <a:latin typeface="Corbel"/>
              </a:rPr>
              <a:t>for the exam, for working student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Normative speakers may be allowed the use </a:t>
            </a:r>
            <a:r>
              <a:rPr b="0" lang="en-US" sz="3000" spc="-1" strike="noStrike">
                <a:solidFill>
                  <a:srgbClr val="000000"/>
                </a:solidFill>
                <a:latin typeface="Corbel"/>
              </a:rPr>
              <a:t>	</a:t>
            </a:r>
            <a:r>
              <a:rPr b="0" lang="en-US" sz="3000" spc="-1" strike="noStrike">
                <a:solidFill>
                  <a:srgbClr val="000000"/>
                </a:solidFill>
                <a:latin typeface="Corbel"/>
              </a:rPr>
              <a:t>of dictionaries and their work may be graded </a:t>
            </a:r>
            <a:r>
              <a:rPr b="0" lang="en-US" sz="3000" spc="-1" strike="noStrike">
                <a:solidFill>
                  <a:srgbClr val="000000"/>
                </a:solidFill>
                <a:latin typeface="Corbel"/>
              </a:rPr>
              <a:t>	</a:t>
            </a:r>
            <a:r>
              <a:rPr b="0" lang="en-US" sz="3000" spc="-1" strike="noStrike">
                <a:solidFill>
                  <a:srgbClr val="000000"/>
                </a:solidFill>
                <a:latin typeface="Corbel"/>
              </a:rPr>
              <a:t>more for content than for expression of idea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ome students may be excused from class for </a:t>
            </a:r>
            <a:r>
              <a:rPr b="0" lang="en-US" sz="3000" spc="-1" strike="noStrike">
                <a:solidFill>
                  <a:srgbClr val="000000"/>
                </a:solidFill>
                <a:latin typeface="Corbel"/>
              </a:rPr>
              <a:t>	</a:t>
            </a:r>
            <a:r>
              <a:rPr b="1" lang="en-US" sz="3000" spc="-1" strike="noStrike">
                <a:solidFill>
                  <a:srgbClr val="000000"/>
                </a:solidFill>
                <a:latin typeface="Corbel"/>
              </a:rPr>
              <a:t>religious holidays</a:t>
            </a:r>
            <a:r>
              <a:rPr b="0" lang="en-US" sz="3000" spc="-1" strike="noStrike">
                <a:solidFill>
                  <a:srgbClr val="000000"/>
                </a:solidFill>
                <a:latin typeface="Corbel"/>
              </a:rPr>
              <a:t>.</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Equal treatment does not necessarily mean </a:t>
            </a:r>
            <a:r>
              <a:rPr b="1" lang="en-US" sz="3000" spc="-1" strike="noStrike">
                <a:solidFill>
                  <a:srgbClr val="000000"/>
                </a:solidFill>
                <a:latin typeface="Corbel"/>
              </a:rPr>
              <a:t>	</a:t>
            </a:r>
            <a:r>
              <a:rPr b="1" lang="en-US" sz="3000" spc="-1" strike="noStrike">
                <a:solidFill>
                  <a:srgbClr val="000000"/>
                </a:solidFill>
                <a:latin typeface="Corbel"/>
              </a:rPr>
              <a:t>same treatment, but treatment that </a:t>
            </a:r>
            <a:r>
              <a:rPr b="1" lang="en-US" sz="3000" spc="-1" strike="noStrike">
                <a:solidFill>
                  <a:srgbClr val="000000"/>
                </a:solidFill>
                <a:latin typeface="Corbel"/>
              </a:rPr>
              <a:t>	</a:t>
            </a:r>
            <a:r>
              <a:rPr b="1" lang="en-US" sz="3000" spc="-1" strike="noStrike">
                <a:solidFill>
                  <a:srgbClr val="000000"/>
                </a:solidFill>
                <a:latin typeface="Corbel"/>
              </a:rPr>
              <a:t>respects the individual circumstance of </a:t>
            </a:r>
            <a:r>
              <a:rPr b="1" lang="en-US" sz="3000" spc="-1" strike="noStrike">
                <a:solidFill>
                  <a:srgbClr val="000000"/>
                </a:solidFill>
                <a:latin typeface="Corbel"/>
              </a:rPr>
              <a:t>	</a:t>
            </a:r>
            <a:r>
              <a:rPr b="1" lang="en-US" sz="3000" spc="-1" strike="noStrike">
                <a:solidFill>
                  <a:srgbClr val="000000"/>
                </a:solidFill>
                <a:latin typeface="Corbel"/>
              </a:rPr>
              <a:t>particular learner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tuality – need for order and routine must be balanced by appreciation for variation and richness in perspective</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is ongoing revitalization of colleges and universities as places of learning.</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not be exclusivist, but rather, try to be inclusivist in your perspectives.  Changing paradigms is necessary as we improve our</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raft as teache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6480"/>
            <a:ext cx="8474040" cy="142740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fontScale="97000"/>
          </a:bodyPr>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1. People from the same nation or geographic region or those who speak the same language, share a common culture. </a:t>
            </a:r>
            <a:r>
              <a:rPr b="1" lang="en-US" sz="2500" spc="-1" strike="noStrike">
                <a:solidFill>
                  <a:srgbClr val="000000"/>
                </a:solidFill>
                <a:latin typeface="Corbel"/>
              </a:rPr>
              <a:t>Tremendous historical, racial, and cultural differences must be acknowledged</a:t>
            </a:r>
            <a:r>
              <a:rPr b="0" lang="en-US" sz="2500" spc="-1" strike="noStrike">
                <a:solidFill>
                  <a:srgbClr val="000000"/>
                </a:solidFill>
                <a:latin typeface="Corbel"/>
              </a:rPr>
              <a:t>. To view regions or nations as if they were monocultural is erroneous, and it may inhibit students’ construction of the fact that many parts contribute to the whole.</a:t>
            </a:r>
            <a:endParaRPr b="0" lang="en-US" sz="2500" spc="-1" strike="noStrike">
              <a:solidFill>
                <a:srgbClr val="000000"/>
              </a:solidFill>
              <a:latin typeface="Corbel"/>
            </a:endParaRPr>
          </a:p>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2. Families from the same culture share the same values. There are </a:t>
            </a:r>
            <a:r>
              <a:rPr b="1" lang="en-US" sz="2500" spc="-1" strike="noStrike">
                <a:solidFill>
                  <a:srgbClr val="000000"/>
                </a:solidFill>
                <a:latin typeface="Corbel"/>
              </a:rPr>
              <a:t>mainstreamers, bicultural individuals, culturally different individuals, culturally marginal individuals.</a:t>
            </a:r>
            <a:r>
              <a:rPr b="0" lang="en-US" sz="2500" spc="-1" strike="noStrike">
                <a:solidFill>
                  <a:srgbClr val="000000"/>
                </a:solidFill>
                <a:latin typeface="Corbel"/>
              </a:rPr>
              <a:t>  In reality, a continuum of cultural identity exists and the entire range often can be found in the same family.</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219240" y="-6480"/>
            <a:ext cx="8546760" cy="14274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differences </a:t>
            </a:r>
            <a:endParaRPr b="0" lang="en-US" sz="28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hances student’s perspectives</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s their critical thinking</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ters higher intellectual </a:t>
            </a:r>
            <a:endParaRPr b="0" lang="en-US" sz="2400" spc="-1" strike="noStrike">
              <a:solidFill>
                <a:srgbClr val="000000"/>
              </a:solidFill>
              <a:latin typeface="Corbel"/>
            </a:endParaRPr>
          </a:p>
          <a:p>
            <a:pPr lvl="2" marL="9954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ngagement</a:t>
            </a:r>
            <a:endParaRPr b="0" lang="en-US" sz="2400" spc="-1" strike="noStrike">
              <a:solidFill>
                <a:srgbClr val="000000"/>
              </a:solidFill>
              <a:latin typeface="Corbel"/>
            </a:endParaRPr>
          </a:p>
          <a:p>
            <a:pPr lvl="1" marL="7300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lem &amp; Hakuta, 2000;Alger, et al, 2000) </a:t>
            </a:r>
            <a:endParaRPr b="0" lang="en-US" sz="2000" spc="-1" strike="noStrike">
              <a:solidFill>
                <a:srgbClr val="000000"/>
              </a:solidFill>
              <a:latin typeface="Corbel"/>
            </a:endParaRPr>
          </a:p>
        </p:txBody>
      </p:sp>
      <p:pic>
        <p:nvPicPr>
          <p:cNvPr id="315" name="Picture 18" descr="C:\Program Files\Common Files\Microsoft Shared\Clipart\cagcat50\pe03166_.wmf"/>
          <p:cNvPicPr/>
          <p:nvPr/>
        </p:nvPicPr>
        <p:blipFill>
          <a:blip r:embed="rId2"/>
          <a:stretch/>
        </p:blipFill>
        <p:spPr>
          <a:xfrm>
            <a:off x="6477120" y="1447920"/>
            <a:ext cx="266688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2"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 Multicultural education just include ethnic or racial issues.  While ethnic and racial concerns are a large part of multicultural education, gender, and socioeconomic diversity also are important.  Children come from many types of homes, including those headed by lesbians and gays parents.</a:t>
            </a:r>
            <a:endParaRPr b="0" lang="en-US" sz="3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School goals for multicultural education includes promotion of equal opportunity in the school, cultural pluralism, alternative lifestyles, and respect for those who differ and support for power equity among groups.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4. The tour and detour approaches are appropriate for teaching multicultural education.  “Tourist multiculturalism” describe approaches that merely visit a culture, involving a curriculum dictated by seasons or months of the year.</a:t>
            </a:r>
            <a:endParaRPr b="0" lang="en-US" sz="3000" spc="-1" strike="noStrike">
              <a:solidFill>
                <a:srgbClr val="000000"/>
              </a:solidFill>
              <a:latin typeface="Corbel"/>
            </a:endParaRPr>
          </a:p>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These methods trivialize, patronize, and steretype cultures by emphasizing traditional costumes, foods, and dances while avoiding the true pic ture of the everyday life of the people from that culture (Derman-Sparks,1993).  Students come away from such teachings with even more biases.</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5. Just as touring and detouring are not recommended practices, neither is teaching multicultural education as a separate subject. </a:t>
            </a:r>
            <a:endParaRPr b="0" lang="en-US" sz="2700" spc="-1" strike="noStrike">
              <a:solidFill>
                <a:srgbClr val="000000"/>
              </a:solidFill>
              <a:latin typeface="Corbel"/>
            </a:endParaRPr>
          </a:p>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r>
              <a:rPr b="0" lang="en-US" sz="2700" spc="-1" strike="noStrike">
                <a:solidFill>
                  <a:srgbClr val="000000"/>
                </a:solidFill>
                <a:latin typeface="Corbel"/>
              </a:rPr>
              <a:t>In a subtle way, it will point out that many groups are still on the margin of society.</a:t>
            </a:r>
            <a:endParaRPr b="0" lang="en-US" sz="2700" spc="-1" strike="noStrike">
              <a:solidFill>
                <a:srgbClr val="000000"/>
              </a:solidFill>
              <a:latin typeface="Corbel"/>
            </a:endParaRPr>
          </a:p>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r>
              <a:rPr b="0" lang="en-US" sz="2700" spc="-1" strike="noStrike">
                <a:solidFill>
                  <a:srgbClr val="000000"/>
                </a:solidFill>
                <a:latin typeface="Corbel"/>
              </a:rPr>
              <a:t>In a transformation approach, the structure and basic assumptions of the curriculum are changed so that the students can view concepts, issues, events, and themes from the perspectives of diverse cultures and groups. Instead of adding to the teacher’s already full plate,  multicultural overall is better.  Integrating multicultural concepts  throughout the curriculum is better.</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lticultural education is an accepted part of the curriculum.  Far from true.  This is a new concept.  Being new, a lot of people will raise eyebrows and would say, what kind of animal  is that? </a:t>
            </a:r>
            <a:endParaRPr b="0" lang="en-US" sz="3200" spc="-1" strike="noStrike">
              <a:solidFill>
                <a:srgbClr val="000000"/>
              </a:solidFill>
              <a:latin typeface="Corbel"/>
            </a:endParaRPr>
          </a:p>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fferrent cultures contribute to making up one particular country, Phils, US, Canada, others.</a:t>
            </a:r>
            <a:endParaRPr b="0" lang="en-US" sz="3200" spc="-1" strike="noStrike">
              <a:solidFill>
                <a:srgbClr val="000000"/>
              </a:solidFill>
              <a:latin typeface="Corbel"/>
            </a:endParaRPr>
          </a:p>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8. Most people identify with only one culture.  Increasingly children and families are multiethnic in nature.  Many children now are not stereotypical. </a:t>
            </a:r>
            <a:endParaRPr b="0" lang="en-US" sz="3200" spc="-1" strike="noStrike">
              <a:solidFill>
                <a:srgbClr val="000000"/>
              </a:solidFill>
              <a:latin typeface="Corbel"/>
            </a:endParaRPr>
          </a:p>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9.  There are not may resources about multicultural education. In the past 10 years, there have emerged a lot of materials and websites about this emerging field.</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pite all these myths and misconceptions, there are a growing number of modern educators who are interested, have a commitment to multicultural education and learn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oin us and enjoy the full range to experience humanity.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255600" y="79200"/>
            <a:ext cx="8437680" cy="1335240"/>
          </a:xfrm>
          <a:prstGeom prst="rect">
            <a:avLst/>
          </a:prstGeom>
          <a:ln w="0">
            <a:noFill/>
          </a:ln>
        </p:spPr>
      </p:pic>
      <p:sp>
        <p:nvSpPr>
          <p:cNvPr id="362"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pect for all persons regardless of age, </a:t>
            </a:r>
            <a:r>
              <a:rPr b="0" lang="en-US" sz="3200" spc="-1" strike="noStrike">
                <a:solidFill>
                  <a:srgbClr val="000000"/>
                </a:solidFill>
                <a:latin typeface="Corbel"/>
              </a:rPr>
              <a:t>	</a:t>
            </a:r>
            <a:r>
              <a:rPr b="0" lang="en-US" sz="3200" spc="-1" strike="noStrike">
                <a:solidFill>
                  <a:srgbClr val="000000"/>
                </a:solidFill>
                <a:latin typeface="Corbel"/>
              </a:rPr>
              <a:t>religion, class, marital status, race/ethnic </a:t>
            </a:r>
            <a:r>
              <a:rPr b="0" lang="en-US" sz="3200" spc="-1" strike="noStrike">
                <a:solidFill>
                  <a:srgbClr val="000000"/>
                </a:solidFill>
                <a:latin typeface="Corbel"/>
              </a:rPr>
              <a:t>	</a:t>
            </a:r>
            <a:r>
              <a:rPr b="0" lang="en-US" sz="3200" spc="-1" strike="noStrike">
                <a:solidFill>
                  <a:srgbClr val="000000"/>
                </a:solidFill>
                <a:latin typeface="Corbel"/>
              </a:rPr>
              <a:t>group</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lization that women and men are </a:t>
            </a:r>
            <a:r>
              <a:rPr b="0" lang="en-US" sz="3200" spc="-1" strike="noStrike">
                <a:solidFill>
                  <a:srgbClr val="000000"/>
                </a:solidFill>
                <a:latin typeface="Corbel"/>
              </a:rPr>
              <a:t>	</a:t>
            </a:r>
            <a:r>
              <a:rPr b="0" lang="en-US" sz="3200" spc="-1" strike="noStrike">
                <a:solidFill>
                  <a:srgbClr val="000000"/>
                </a:solidFill>
                <a:latin typeface="Corbel"/>
              </a:rPr>
              <a:t>different but equa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me things can be changed towards </a:t>
            </a:r>
            <a:r>
              <a:rPr b="0" lang="en-US" sz="3200" spc="-1" strike="noStrike">
                <a:solidFill>
                  <a:srgbClr val="000000"/>
                </a:solidFill>
                <a:latin typeface="Corbel"/>
              </a:rPr>
              <a:t>	</a:t>
            </a:r>
            <a:r>
              <a:rPr b="0" lang="en-US" sz="3200" spc="-1" strike="noStrike">
                <a:solidFill>
                  <a:srgbClr val="000000"/>
                </a:solidFill>
                <a:latin typeface="Corbel"/>
              </a:rPr>
              <a:t>equality  at home, in school, in the</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mmunity, and institution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4" name="PlaceHolder 2"/>
          <p:cNvSpPr>
            <a:spLocks noGrp="1"/>
          </p:cNvSpPr>
          <p:nvPr>
            <p:ph/>
          </p:nvPr>
        </p:nvSpPr>
        <p:spPr>
          <a:xfrm>
            <a:off x="457200" y="190512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et us be proactive. Let the change begin with us, with ourselves. Let us take responsibility for change in our homes, in our classrooms, in our lives.</a:t>
            </a:r>
            <a:endParaRPr b="0" lang="en-US" sz="30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ut there it is a struggle… but think win-win. You change, they change.  Let us all be multiculturalist in our  perspective.  All for the better.</a:t>
            </a:r>
            <a:endParaRPr b="0" lang="en-US" sz="30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et us synergize … learn to work WITH others, not against them.</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WINDOWS\DESKTOP\SLEEPING LADY.IMG.JPG"/>
          <p:cNvPicPr/>
          <p:nvPr/>
        </p:nvPicPr>
        <p:blipFill>
          <a:blip r:embed="rId1"/>
          <a:stretch/>
        </p:blipFill>
        <p:spPr>
          <a:xfrm>
            <a:off x="-304920" y="-228600"/>
            <a:ext cx="9753840" cy="7315200"/>
          </a:xfrm>
          <a:prstGeom prst="rect">
            <a:avLst/>
          </a:prstGeom>
          <a:ln w="0">
            <a:noFill/>
          </a:ln>
        </p:spPr>
      </p:pic>
      <p:sp>
        <p:nvSpPr>
          <p:cNvPr id="366" name="Text Box 3"/>
          <p:cNvSpPr/>
          <p:nvPr/>
        </p:nvSpPr>
        <p:spPr>
          <a:xfrm>
            <a:off x="990720" y="304920"/>
            <a:ext cx="58482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Thank  you  for  your attention  and </a:t>
            </a:r>
            <a:r>
              <a:rPr b="1" lang="en-US" sz="4000" spc="-1" strike="noStrike">
                <a:solidFill>
                  <a:srgbClr val="000000"/>
                </a:solidFill>
                <a:latin typeface="Lucida Handwriting"/>
              </a:rPr>
              <a:t>wassalam</a:t>
            </a:r>
            <a:r>
              <a:rPr b="1" lang="en-US" sz="3600" spc="-1" strike="noStrike">
                <a:solidFill>
                  <a:srgbClr val="000000"/>
                </a:solidFill>
                <a:latin typeface="Lucida Handwriting"/>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523520"/>
            <a:ext cx="8229600" cy="4876920"/>
          </a:xfrm>
          <a:prstGeom prst="rect">
            <a:avLst/>
          </a:prstGeom>
          <a:noFill/>
          <a:ln w="0">
            <a:noFill/>
          </a:ln>
        </p:spPr>
        <p:txBody>
          <a:bodyPr lIns="54720"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Banks &amp; Banks, 1995)</a:t>
            </a:r>
            <a:endParaRPr b="0" lang="en-US" sz="19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a field of study and an emerging discipline whose major aim is to create equal opportunities for students from diverse racial, ethnic, social class and social groups.</a:t>
            </a: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Impt goal is to help students gain knowledge, skills, and attitudes needed to function effectively in pluralistic democratic societies in order to create a civic and moral community that works for the common good</a:t>
            </a: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Field of study designed to increase educational equity for all students that incorporates for this purpose, content, concepts, principles, theories and paradigms from history, the social and behavioral sciences, and particularly from ethnic studies and</a:t>
            </a:r>
            <a:endParaRPr b="0" lang="en-US" sz="2200" spc="-1" strike="noStrike">
              <a:solidFill>
                <a:srgbClr val="000000"/>
              </a:solidFill>
              <a:latin typeface="Corbel"/>
            </a:endParaRPr>
          </a:p>
          <a:p>
            <a:pPr marL="429120" indent="-312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      </a:t>
            </a:r>
            <a:r>
              <a:rPr b="1" lang="en-US" sz="2200" spc="-1" strike="noStrike">
                <a:solidFill>
                  <a:srgbClr val="000000"/>
                </a:solidFill>
                <a:latin typeface="Corbel"/>
              </a:rPr>
              <a:t>women studi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268200" y="-390600"/>
            <a:ext cx="8961480" cy="180504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cultural  society       student diversity</a:t>
            </a:r>
            <a:endParaRPr b="0" lang="en-US" sz="32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o-economic background/class</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ethnicity</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Orientation</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nd Learning abilities</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20" name="Right Arrow 3"/>
          <p:cNvSpPr/>
          <p:nvPr/>
        </p:nvSpPr>
        <p:spPr>
          <a:xfrm>
            <a:off x="4876920" y="1981080"/>
            <a:ext cx="533160" cy="228600"/>
          </a:xfrm>
          <a:prstGeom prst="rightArrow">
            <a:avLst>
              <a:gd name="adj1" fmla="val 50000"/>
              <a:gd name="adj2" fmla="val 49982"/>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457200" y="1371600"/>
            <a:ext cx="8229600" cy="54864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Moral Grounds</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focus on  mutual respect  between teachers and learners as people</a:t>
            </a:r>
            <a:endParaRPr b="0" lang="en-US" sz="2600" spc="-1" strike="noStrike">
              <a:solidFill>
                <a:srgbClr val="000000"/>
              </a:solidFill>
              <a:latin typeface="Corbel"/>
            </a:endParaRPr>
          </a:p>
          <a:p>
            <a:pPr lvl="1" marL="7300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Intellectual</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importance of many perspectives</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of seeing things from the fullness of human experience</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of growth through challenge and contrast</a:t>
            </a: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Social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The call is for justice and equity among people while they are in formal learning environment  &amp; as they live their lives</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285840" y="152280"/>
            <a:ext cx="8450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ome students are older than 17-22 age bracket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omen are now the majority sex in schools</a:t>
            </a:r>
            <a:endParaRPr b="0" lang="en-US" sz="25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gays, lesbians, bisexual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singles, married, live-in, separat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Catholics, Muslims, born-again Christians,  Iglesia ni Cristo, Seventh-Day Adventists , other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members of cultural communities –</a:t>
            </a:r>
            <a:endParaRPr b="0" lang="en-US" sz="25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	</a:t>
            </a:r>
            <a:r>
              <a:rPr b="0" lang="en-US" sz="2500" spc="-1" strike="noStrike">
                <a:solidFill>
                  <a:srgbClr val="000000"/>
                </a:solidFill>
                <a:latin typeface="Corbel"/>
              </a:rPr>
              <a:t>Manobo, Higaonon, Subaben, Tausug, Maranao, Maguindanao, Tagalog, Ilongo, Ilocano, other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219240" y="-6480"/>
            <a:ext cx="8474040" cy="1427400"/>
          </a:xfrm>
          <a:prstGeom prst="rect">
            <a:avLst/>
          </a:prstGeom>
          <a:ln w="0">
            <a:noFill/>
          </a:ln>
        </p:spPr>
      </p:pic>
      <p:sp>
        <p:nvSpPr>
          <p:cNvPr id="326"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Nancy Van Note Chism of Purdue University, in McKeachie’s Teaching Tips, 2002, Houghton Mifflin)</a:t>
            </a:r>
            <a:endParaRPr b="0" lang="en-US" sz="1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urriculum</a:t>
            </a:r>
            <a:endParaRPr b="0" lang="en-US" sz="32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ontent of the curriculum narrowly focuses on “western” intellectual tradition, specifically the experience of the mainstream</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udents from other cultural traditions  feel marginal to the academic experience</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y see no role models &amp; feel that their experience is not valued</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s should also include those written by  representatives from other diverse groups. Transformation through “emancipatory view of authority.</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arder, 1996 – Knowledge as a historical and cultural product is forever in a state of partiality)</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eaching Strategies</a:t>
            </a:r>
            <a:endParaRPr b="0" lang="en-US" sz="3200" spc="-1" strike="noStrike">
              <a:solidFill>
                <a:srgbClr val="000000"/>
              </a:solidFill>
              <a:latin typeface="Corbel"/>
            </a:endParaRPr>
          </a:p>
          <a:p>
            <a:pPr lvl="1" marL="730080" indent="-272880" algn="just">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assroom interactions, academic discourse, cognitive style, and other aspects of teaching and learning also exhibit a particular cultural style that constraints full participation by students from other backgrounds and includes insights from other cultur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759520" cy="1427400"/>
          </a:xfrm>
          <a:prstGeom prst="rect">
            <a:avLst/>
          </a:prstGeom>
          <a:ln w="0">
            <a:noFill/>
          </a:ln>
        </p:spPr>
      </p:pic>
      <p:sp>
        <p:nvSpPr>
          <p:cNvPr id="330" name=""/>
          <p:cNvSpPr txBox="1"/>
          <p:nvPr/>
        </p:nvSpPr>
        <p:spPr>
          <a:xfrm>
            <a:off x="0" y="1447920"/>
            <a:ext cx="914400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ams, 1992; Bowser, et al, 1995; Sanders &amp; Kardia, 1997;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Prenger, 1999, among other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all students need to feel welcome</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feel they are being treated as individuals</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feel they can  participate  fully</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be treated fairly</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5:43:15Z</dcterms:created>
  <dc:creator>bong</dc:creator>
  <dc:description/>
  <dc:language>en-US</dc:language>
  <cp:lastModifiedBy>riza</cp:lastModifiedBy>
  <dcterms:modified xsi:type="dcterms:W3CDTF">2009-10-14T05:10:32Z</dcterms:modified>
  <cp:revision>17</cp:revision>
  <dc:subject/>
  <dc:title>Multicultural Dimension of Education  MSU-IIT 19 Sept. 2009</dc:title>
</cp:coreProperties>
</file>